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A14A-B043-483A-84CA-52C44B86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93A3-FAFD-4E5E-B303-CDC971DC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6234-DCF6-41DD-BF76-C9165796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D909-67D0-407A-89FB-D0DB852E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B2A4-5435-40B7-9861-68B20129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9953-304F-4CAF-9904-41D2D78F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7123-A937-4BAC-B043-D1D6C055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661B-75F8-41B1-95FE-1613ACA1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99F0-1916-4385-BD20-A75DBF8D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D8EF-81BB-4197-80A9-3F281624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7CC6-08BB-4B5F-85DE-1618552C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7F45-8275-4603-9EA7-892D6EB5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ABA1-190B-495F-B6F1-759901D5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1C81-29DC-4921-B04E-46F7CA9C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3EC3-B8CC-4E12-A232-1C035E09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452B-88DA-4718-880A-93013F77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B89E-08AD-40C4-AD3C-9A5171A8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1036-905B-4905-BC88-C2BEC54A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3221-4133-457C-A2F1-8F13FD2D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FC87-7505-49DC-9980-91AA7706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261C-9673-4A21-8441-DAF96798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0F19-6A58-49BA-86E3-65197D09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4E3D-A5BB-4A4F-B7F5-566AE092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7DB0-0C8E-4A59-A52B-E680EFE7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3A12-5CE0-4770-9497-1BE5865269A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D45D-95E2-4727-87D1-3EAEED8BAF7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64 bit Kogge-Stone Adders in different logic styles – A study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ob McNis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atyanand Nala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lay Plot – Static CM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6483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est case delay for the carry tree is the path for C0 as this consists entirely of inverter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est case delay distribution for the static cmos adder is shown. The mean was 144 p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input vectors (in hex)  are A=0000 0000 0000 0001 B=0000 0000 0000 0000 -&gt; 0000 0000 0000 000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4100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lay Plot – Static CM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lay plot for a random case is show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put vectors are A=8000 0000 0000 0000 B=0000 0000 0000 0000 -&gt; 8000 0000 0000 000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933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lay Plot – Dynamic logi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lay plot for a random case is show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put vectors are A=8000 0000 0000 0000 B=0000 0000 0000 0000 -&gt; 8000 0000 0000 000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9625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wer dissip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3962520"/>
          <a:ext cx="8229240" cy="21891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tatic CMO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0.19 m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ynamic Logi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4.7 m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5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OP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6.29 m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ower dissipation was measured for the three adders using spectre for the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The novelty: Using a high VT footer to reduce leakage power in OPL gat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dded High VT footer transistor, in order to reduce leakage power in standby mode for the OPL add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oters added to the basic sub-block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gh VT transistor modeled by applying a negative voltage to the bulk of the footer transisto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eakage power reduc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0x reduction in leakage power got by using the high VT footer in the OPL adde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743200" y="3886200"/>
          <a:ext cx="4038480" cy="22446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2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/o high VT foo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6.3 u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ith high VT foo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0.54 uW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1. A 0.5V, 400MHz, VDD-Hopping Processor with Zero-VTH FD-SOI Technology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Hiroshi Kawaguchi, Kouichi Kanda ISSCC 2003 / SESSION 6 / LOW-POWER DIGITAL TECHNIQUES / PAPER 6.3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2. Output prediction logic: a high-performance CMOS design technique McMurchie, L.; Kio, S.; Yee, G.; Thorp, T.; Sechen, C.; Computer Design, 2000. Proceedings. 2000 International Conference on 17-20 Sept. 2000 Page(s):247 - 254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3. 409ps 4.7 FO4 64b adder based on output prediction logic in 0.18um CMOS Sheng Sun; Yi Han; Xinyu Guo; Kian Haur Chong; McMurchie, L.; Sechen, C.; VLSI, 2005. Proceedings. IEEE Computer Society Annual Symposium on 11-12 May 2005 Page(s):52 - 58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compare speed and power dissipation of 64-bit Kogge Stone Adder in 3 logic style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atic CM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ynamic Logi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atic Output Prediction Logic (OPL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reduce leakage power dissipation in OPL circuits using MTCMOS techniqu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Add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477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chnology used – 90nm PT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ierarchical desig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verting sub-blocks (dot and square) to implement the nodes of the Kogge-Stone tre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mplement the basic sub-blocks in static, dynamic and OPL-static sty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inimal changes to the tree netlist to construct the 3 add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chematic for 16 bit adder is shown. Can be extended for a 64 bit adde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238520" y="1599840"/>
            <a:ext cx="1600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238880" y="1600200"/>
            <a:ext cx="1600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chematic for 16 bit add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81080" y="1746360"/>
            <a:ext cx="518184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utput Prediction Logic (OPL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ogic style that can be applied to different logic styles to increase spe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tains attributes of the underlying family (e.g Static, Dynamic, Pseudo-nmos etc.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lies on alternating nature of logical output values of a critical path, i.e, for any critical path the outputs of the gates along the paths will be alternating zeros and on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PL Concep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PL predicts that every output will be 1 after the transitions are complet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ince all gates are inverting, the predictions will be correct one half of the time =&gt; at least 2X speedup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blem: One at the output of every inverting gate is not a stable stat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715000" y="4267080"/>
            <a:ext cx="3071880" cy="792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3353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PL Examp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952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lution: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ri-state each gate with a clock =&gt; 1 at input and 1 output is possibl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ample shown – 3 input nor gate in OPL-static, where the predicted value is a 1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LK=0 =&gt; gate is tristated, with output precharged to 1.  CLK=1 =&gt; conventional CMOS gat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867280" y="2362320"/>
            <a:ext cx="27403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OPL clocking: Chain of OPL gat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3265200" cy="127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562720" y="1219320"/>
            <a:ext cx="2836800" cy="1406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352680" y="2743200"/>
            <a:ext cx="295452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PL clock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ock separation too less =&gt; heavy glitching and precharge value lo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ock separation too large =&gt; minimal glitching, but speedup achieved is limited by the clock, not by the dat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ptimal Clock separation =&gt; limited glitching and circuit is not clock-block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2:29:37Z</dcterms:created>
  <dc:creator>Satyanand Vijay Nalam</dc:creator>
  <dc:description/>
  <dc:language>en-US</dc:language>
  <cp:lastModifiedBy>Satyanand Vijay Nalam</cp:lastModifiedBy>
  <dcterms:modified xsi:type="dcterms:W3CDTF">2006-12-04T18:05:32Z</dcterms:modified>
  <cp:revision>112</cp:revision>
  <dc:subject/>
  <dc:title>64 bit Kogge-Stone Adders in different logic styles – A study</dc:title>
</cp:coreProperties>
</file>